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456-7464-48B0-AC63-34468CBF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8B3-613B-4C1D-83B8-1282927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540-86D2-455D-A428-B4D5279E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790-4B43-448F-A1E9-0778504B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9E3-6352-4317-8257-2CD61E5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5C1-3464-49A5-B260-6CC38C3C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F9F-DF02-49AE-A28F-6DD02DAE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EA8-A53C-45A4-8433-4201441E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9D5-99AD-49F3-9308-133104E0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77E-5DC9-4DB4-BF9F-AACB615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2D4-6DF2-469E-A76F-0335C89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0D1-957E-4177-B6AE-437D55E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6CC7-5F05-42CF-AB49-F8587DA9C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troduction to Psychological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Views of Mental Il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cient times, mental illness was usually explained through a supernatural model; the person was possessed or a s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he Middle Ages treatment methods were inhumane and cr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ilippe Pinel (1745-182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nch physician who worked to reform the treatment of people with 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more humane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Blair-Broeker_29UN04"/>
          <p:cNvPicPr/>
          <p:nvPr/>
        </p:nvPicPr>
        <p:blipFill>
          <a:blip r:embed="rId1"/>
          <a:stretch/>
        </p:blipFill>
        <p:spPr>
          <a:xfrm>
            <a:off x="2133720" y="3505320"/>
            <a:ext cx="5029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derstanding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Medical Mod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dic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pt that mental illnesses have physical causes that can be diagnosed, treated, and in most cases, cu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logical disorders can be diagnosed based on their symptoms and treated or cured through thera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logical disorders are similar to a physical ill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derstanding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io-Psycho-Social Mod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-Psycho-Soci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mporary perspective that assumes biological, psychological, and sociocultural factors combine and interact to produce psychologic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-Psycho-Soci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Blair-Broeker_fig"/>
          <p:cNvPicPr/>
          <p:nvPr/>
        </p:nvPicPr>
        <p:blipFill>
          <a:blip r:embed="rId1"/>
          <a:stretch/>
        </p:blipFill>
        <p:spPr>
          <a:xfrm>
            <a:off x="762120" y="1219320"/>
            <a:ext cx="75438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assifying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agnostic and Statistical Manual of Mental Disorders –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xt of the DSM-IV was recently revised, hence “TR” at 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lair-Broeker_29UN05"/>
          <p:cNvPicPr/>
          <p:nvPr/>
        </p:nvPicPr>
        <p:blipFill>
          <a:blip r:embed="rId1"/>
          <a:stretch/>
        </p:blipFill>
        <p:spPr>
          <a:xfrm>
            <a:off x="5334120" y="1600200"/>
            <a:ext cx="3449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ed by the American Psychiatric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s and describes all the currently accepted categories of 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lair-Broeker_29UN05"/>
          <p:cNvPicPr/>
          <p:nvPr/>
        </p:nvPicPr>
        <p:blipFill>
          <a:blip r:embed="rId1"/>
          <a:stretch/>
        </p:blipFill>
        <p:spPr>
          <a:xfrm>
            <a:off x="5334120" y="1598760"/>
            <a:ext cx="3449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efining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s mental disorders into 17 major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 the symptoms but not the causes of each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s changed significantly since the first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67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895480"/>
            <a:ext cx="914400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0" y="3962520"/>
            <a:ext cx="91440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lair-Broeker_table"/>
          <p:cNvPicPr/>
          <p:nvPr/>
        </p:nvPicPr>
        <p:blipFill>
          <a:blip r:embed="rId1"/>
          <a:stretch/>
        </p:blipFill>
        <p:spPr>
          <a:xfrm>
            <a:off x="2133720" y="838080"/>
            <a:ext cx="4663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beling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ing Stig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es show a clear bias against people diagnosed with mental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lair-Broeker_29UN07"/>
          <p:cNvPicPr/>
          <p:nvPr/>
        </p:nvPicPr>
        <p:blipFill>
          <a:blip r:embed="rId1"/>
          <a:stretch/>
        </p:blipFill>
        <p:spPr>
          <a:xfrm>
            <a:off x="2133720" y="3102120"/>
            <a:ext cx="48765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138760" y="649116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 Eagleton and George McGovern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logical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harmful dysfunction” in which behaviors are maladaptive, unjustifiable, disturbing, and aty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ladap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xaggeration of normal, acceptable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ructive to oneself 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justif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havior which does not have a rational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ur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havior which is troublesome to other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havior so different from other people’s behavior that it violates a n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rms vary from culture to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nemonic device used to remember the four attributes of a psychological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ada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justif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tur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derstanding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15T18:52:22Z</dcterms:modified>
  <cp:revision>48</cp:revision>
  <dc:subject/>
  <dc:title>Psychology</dc:title>
</cp:coreProperties>
</file>